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99A0-E99F-4C0D-8C4F-4FDFB9443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700C-1835-4A62-A47C-48BB11375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A137-8BFF-4A65-A972-E73FF09A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48EF-AE98-41DB-B2B3-4A75ABC9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3AB-FB3F-41AE-819A-FA7FDA8C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FBA-D461-40E4-B83A-C0960FB1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D42-8FDE-45E7-BC28-19568CBC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85A-7E31-4666-AD0D-F15FB521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8A93-A000-4B0E-B38C-3910D890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A90-4510-44AD-BEC7-5317472D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720-F324-4DFE-80AF-27711FB9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3073-B7F3-4C38-94BD-B4689548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611-FF9D-46BA-8FD6-B6517CFF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17B-AB7C-4F49-A606-FEEB6764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FA24-8C2F-4D2A-B211-BCF383F11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bigelow.org/edhab/fitting_algae.html" TargetMode="Externa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BIOSPHERE</a:t>
            </a:r>
            <a:br>
              <a:rPr sz="5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br>
              <a:rPr sz="4400"/>
            </a:br>
            <a:br>
              <a:rPr sz="4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RE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GreenCircle"/>
          <p:cNvPicPr/>
          <p:nvPr/>
        </p:nvPicPr>
        <p:blipFill>
          <a:blip r:embed="rId1"/>
          <a:stretch/>
        </p:blipFill>
        <p:spPr>
          <a:xfrm>
            <a:off x="3581280" y="3733920"/>
            <a:ext cx="2028960" cy="1847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4877640" y="6400800"/>
            <a:ext cx="402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cc"/>
                </a:solidFill>
                <a:latin typeface="Arial"/>
              </a:rPr>
              <a:t>http://educ.queensu.ca/~fmc/august2004/pages/dinobreath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does the way matter flows through an ecosystem differ from the way that energy flow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95920" y="1981080"/>
            <a:ext cx="8361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Energy is passed in one-way direction throug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the biotic (living organisms) in an eco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Matter cycles within and between biotic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biotic parts of an eco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31840" y="4724280"/>
            <a:ext cx="8715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ich biogeochemical cycle does NO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volve a stage where the chemic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ters the atmosphe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867280" y="6019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phosphor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s in which bacteria convert nit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o nitrogen gas and release it in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821320" y="1828800"/>
            <a:ext cx="32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denitr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32560" y="3657600"/>
            <a:ext cx="867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utrient which is scare or cycles slow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at controls population 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752480" y="50292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Limiting nutr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an example of a decompos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52280" y="1295280"/>
            <a:ext cx="8763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acteria or fung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(break down organic material and  absorb the nutri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89400" y="3635280"/>
            <a:ext cx="801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ich group of organisms is alw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und in the first trophic level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very food chain or web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371600" y="58672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Autotrophs or produc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391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y is only about 10% of the energy in an organism transferred in a food chain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80880" y="218124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Some is used by organism for life processes such as movement, transport, metabolism, growth, reproduction, and rest is lost as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57320" y="4419720"/>
            <a:ext cx="875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ve an example of an ABIOTIC fa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85800" y="511812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limate, temperature, precipitation, wind, soil type, water availability, sunl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an example of a RESOUR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13800" y="1676520"/>
            <a:ext cx="78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Food, water, shelter, territory,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14240" y="3635280"/>
            <a:ext cx="798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s drives the wind and currents that mo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ergy throughout the bi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362320" y="48006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Unequal heating of earth’s su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152280"/>
            <a:ext cx="93726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o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terotroph that obtains energy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ating only pla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terotroph that eats both plants a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ima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terotroph that breaks down orga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tter (Ex: Fungi &amp; bacteria)             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terotroph that feed on dead plant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and animal remains (EX:Crabs &amp; worms) 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terotroph that eats only mea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400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DECOMPO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175440" y="121932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HERBIV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250680" y="228600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OMNIV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176880" y="441972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DETRITIV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405840" y="525780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ARNIV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is a food web different from 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od cha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05280" y="1724040"/>
            <a:ext cx="88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Food webs are made up of many food ch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52280" y="2971800"/>
            <a:ext cx="947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ich of these is an herbivo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09480" y="56386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↑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Zebras  are herbiv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zebra"/>
          <p:cNvPicPr/>
          <p:nvPr/>
        </p:nvPicPr>
        <p:blipFill>
          <a:blip r:embed="rId1"/>
          <a:stretch/>
        </p:blipFill>
        <p:spPr>
          <a:xfrm>
            <a:off x="685800" y="4267080"/>
            <a:ext cx="1571760" cy="1049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ungus"/>
          <p:cNvPicPr/>
          <p:nvPr/>
        </p:nvPicPr>
        <p:blipFill>
          <a:blip r:embed="rId2"/>
          <a:stretch/>
        </p:blipFill>
        <p:spPr>
          <a:xfrm>
            <a:off x="5105520" y="4114800"/>
            <a:ext cx="1447560" cy="1085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tree"/>
          <p:cNvPicPr/>
          <p:nvPr/>
        </p:nvPicPr>
        <p:blipFill>
          <a:blip r:embed="rId3"/>
          <a:stretch/>
        </p:blipFill>
        <p:spPr>
          <a:xfrm>
            <a:off x="2895480" y="3733920"/>
            <a:ext cx="1406520" cy="214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punkbaby"/>
          <p:cNvPicPr/>
          <p:nvPr/>
        </p:nvPicPr>
        <p:blipFill>
          <a:blip r:embed="rId4"/>
          <a:stretch/>
        </p:blipFill>
        <p:spPr>
          <a:xfrm>
            <a:off x="7315200" y="3809880"/>
            <a:ext cx="1281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 the climate zones in order from coldest to warm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22400" y="2438280"/>
            <a:ext cx="49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Polar, Temperate, Trop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62960" y="4114800"/>
            <a:ext cx="772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ll two ways water returns to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tmosphere in the water cyc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838080" y="5562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Evaporation and transpi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mary succession occurs when this is not present anym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662640" y="1447920"/>
            <a:ext cx="10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So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90840" y="2286000"/>
            <a:ext cx="751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me a limiting factor that c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use a population to decr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80880" y="380988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ompetition- for food, shelter, terri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Pre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Disease/Parasit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Drought/climate 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Human disturb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160" y="685440"/>
            <a:ext cx="8381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rbon cycles through the biosphere in all of the following EXCEP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hotosynthesis      respiration      transpiration   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676520" y="3400560"/>
            <a:ext cx="546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TRANSPIRATION mov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water in the water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68800" y="4724280"/>
            <a:ext cx="819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organism breaks down rocks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new so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91120" y="54100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Lich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st the 6 levels of organization that ecologists study from smallest to larg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32200" y="2438280"/>
            <a:ext cx="33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Organisms 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→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581280" y="2514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Populations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296720" y="3657600"/>
            <a:ext cx="33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ommunities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030640" y="3584520"/>
            <a:ext cx="29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Ecosystems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364120" y="472752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Biomes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106960" y="4724280"/>
            <a:ext cx="29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BIOSPHE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228600"/>
            <a:ext cx="914400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T THE FOLLOWING IN ORDER OF INCREASING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_______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_______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_______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_______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________________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_______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172200" y="3124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07080" y="304812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202920" y="312408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84120" y="380988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4"/>
          <p:cNvSpPr/>
          <p:nvPr/>
        </p:nvSpPr>
        <p:spPr>
          <a:xfrm>
            <a:off x="3735000" y="38862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BI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5"/>
          <p:cNvSpPr/>
          <p:nvPr/>
        </p:nvSpPr>
        <p:spPr>
          <a:xfrm>
            <a:off x="6326640" y="3809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BI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0"/>
          <p:cNvSpPr/>
          <p:nvPr/>
        </p:nvSpPr>
        <p:spPr>
          <a:xfrm>
            <a:off x="685800" y="1219320"/>
            <a:ext cx="7543800" cy="10159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GANISM       ECOSYSTEM      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UNITY       BIOSPHERE          BI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7696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greenhouse ef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21560" y="1371600"/>
            <a:ext cx="8035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Energy from sunlight ent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The atmosphere and is then trapp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y atmospheric gas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91560" y="3635280"/>
            <a:ext cx="738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sm that captures and ea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066680" y="5319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pred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1536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inciple that states no two organisms can share the same niche at the same time in the same pl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38760" y="3581280"/>
            <a:ext cx="828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substance organisms nee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sustain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2666880" y="52578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nutr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917640" y="2514600"/>
            <a:ext cx="63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ompetitive exclusion princ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t these in ord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ure Forest, Bare Rock, Bushes, Trees, Grass, Li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14400" y="2057400"/>
            <a:ext cx="748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are Rock, Lichen, Grass, Bushes, Trees, Mature fo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95120" y="4343400"/>
            <a:ext cx="89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amples that cause primary suc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28600" y="52578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Volcanoes, Lava Flow, Retreating Glaci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ymbiotic relationship in whi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oth organisms benefit from their cl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soc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966120" y="2286000"/>
            <a:ext cx="249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mutu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95200" y="3755880"/>
            <a:ext cx="8474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 “organism’s job” that includes what it eat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eats it, where in the habitat it lives, how 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ts, and when &amp; how it reproduces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00400" y="55627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ni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ll one way chemosynthesis is different from photosynths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52280" y="1927080"/>
            <a:ext cx="900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Photosynthesis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Chemosynthesis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Requires light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Happens without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Gets energy from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Gets energy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sunlight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chemical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0" y="4495680"/>
            <a:ext cx="8826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’s the difference between weath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clim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Weather (daily)   Climate (yearl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09480" y="456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ll one way chemosynthesis and photosynthesis are ALI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459000" y="1952640"/>
            <a:ext cx="819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Both: Ways organisms get energy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          Use energy to make carbohydrates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          Happen in autotrop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418680" y="4191120"/>
            <a:ext cx="8430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other name for a stable comm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at results after hundreds of yea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____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80880" y="54864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limax Commun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group of individuals that belong to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me species that live together in an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821320" y="1905120"/>
            <a:ext cx="25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pop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91200" y="3635280"/>
            <a:ext cx="699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other name for heterotrop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52480" y="49528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onsum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152280"/>
            <a:ext cx="8763120" cy="59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ers make up the first trophic level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od chains are made by linking many food web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 the energy is passed from one trophic level to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ergy flows through the ecosystem in one direction from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sun to producers to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66680" y="44197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  Only about 10% is passed on to the next level.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Most is used for life processes or lost as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756080" y="15238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145160" y="2971800"/>
            <a:ext cx="69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ALSE: Food webs are made by linking food ch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594160" y="60958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839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ive an example of dividing resour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82200" y="1295280"/>
            <a:ext cx="63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Lion’s Territory or birds liv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in different sections of 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52280" y="2971800"/>
            <a:ext cx="947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ich of these is a carnivo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114800" y="585144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↑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Lions  are carniv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6" descr="zebra"/>
          <p:cNvPicPr/>
          <p:nvPr/>
        </p:nvPicPr>
        <p:blipFill>
          <a:blip r:embed="rId1"/>
          <a:stretch/>
        </p:blipFill>
        <p:spPr>
          <a:xfrm>
            <a:off x="380880" y="4267080"/>
            <a:ext cx="1571760" cy="1049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fungus"/>
          <p:cNvPicPr/>
          <p:nvPr/>
        </p:nvPicPr>
        <p:blipFill>
          <a:blip r:embed="rId2"/>
          <a:stretch/>
        </p:blipFill>
        <p:spPr>
          <a:xfrm>
            <a:off x="6934320" y="4343400"/>
            <a:ext cx="1447560" cy="1085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tree"/>
          <p:cNvPicPr/>
          <p:nvPr/>
        </p:nvPicPr>
        <p:blipFill>
          <a:blip r:embed="rId3"/>
          <a:stretch/>
        </p:blipFill>
        <p:spPr>
          <a:xfrm>
            <a:off x="2514600" y="3733920"/>
            <a:ext cx="1406520" cy="2143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lion"/>
          <p:cNvPicPr/>
          <p:nvPr/>
        </p:nvPicPr>
        <p:blipFill>
          <a:blip r:embed="rId4"/>
          <a:srcRect l="0" t="21213" r="0" b="0"/>
          <a:stretch/>
        </p:blipFill>
        <p:spPr>
          <a:xfrm>
            <a:off x="4724280" y="3886200"/>
            <a:ext cx="1676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me 4 ways organisms in an ecosystem interact with each 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374120" y="1828800"/>
            <a:ext cx="2890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ompetition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Pre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oop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Symbi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up of different populations that live together in an 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899080" y="2133720"/>
            <a:ext cx="26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omm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691920" y="3635280"/>
            <a:ext cx="817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the living things an ecosyst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at an organism might interact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066680" y="5319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Biotic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838080" y="259092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8" descr="food chain4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20574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9"/>
          <p:cNvSpPr/>
          <p:nvPr/>
        </p:nvSpPr>
        <p:spPr>
          <a:xfrm>
            <a:off x="4801320" y="3352680"/>
            <a:ext cx="307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cc"/>
                </a:solidFill>
                <a:latin typeface="Arial"/>
              </a:rPr>
              <a:t>BIOLOGY; Miller and Levine; Prentice Hall;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04920" y="228600"/>
            <a:ext cx="83818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iagram shows a 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of the organisms above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producer ? 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onsumer? 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any trophic levels are shown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5488920" y="22860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od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4725000" y="457200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4190040" y="5181480"/>
            <a:ext cx="46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ooplankton, fish, squid, sh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8381880" y="579132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0" y="152280"/>
            <a:ext cx="876312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teria take carbon dioxide from the atomosphere an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fix it in a form plants can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rbon dioxide enters the atmosphere naturally from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piration and volcanic activit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uman activities such as mining, cutting and burning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ests, and burning fossil fuels releases carbon dioxid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o the atm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hotosynthesis by plants removes carbon dioxide from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m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4038480" y="4724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301760" y="1676520"/>
            <a:ext cx="75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his is TRUE about nitrogen NOT CARBON DI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993960" y="31240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499280" y="60958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838224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is a detritivore different from a decompos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81240" y="1876320"/>
            <a:ext cx="728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Detritivores EAT dead organisms;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Decomposers break them down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absorb their nutr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04920" y="41911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me one of the biogeochemical cycles you learned 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04920" y="56386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arbon, nitrogen, Water (hydrogen &amp; oxygen); phosphor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oup of organisms so similar that they can breed and produce fertile offsp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2897280" y="1676520"/>
            <a:ext cx="16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91920" y="3635280"/>
            <a:ext cx="759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 organism that is captured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ten by 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066680" y="5319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pr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0" y="152280"/>
            <a:ext cx="876312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rning fossil fuels is depleting our ozone laye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rning fossil fuels causes acid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rning fossil fuels is the major cause of global war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erving electricity, using renewable energy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like biofuels , solar, and wind), riding a bike, recycling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ste, making products more energy efficient are all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help the global warmin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219320" y="44197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837720" y="1219320"/>
            <a:ext cx="761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ALSE: Burning fossil fuels causes many environmental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roblems… but the ozone hole is caused by  CFC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527480" y="29718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5870880" y="60958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09480" y="456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cess in which some bacteria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ergy stored in the chemical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inorganic compounds to ma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rbohydrates in the absence of l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060640" y="2971800"/>
            <a:ext cx="353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hem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85560" y="3886200"/>
            <a:ext cx="8363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ries of steps in which organism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nsfer energy through an eco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y eating and being eat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523880" y="58672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Food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152280"/>
            <a:ext cx="876312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ch of the following is TRUE about the PHOSPHORUS CYC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hosphate is released as rocks and sediments wear dow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nts absorb phosphate from the soil or from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hosphorus is abundant in the atm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hosphorus is important for building nucleic acids, ATP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making cell membra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90720" y="46483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ALSE,  phosphorus does NOT cycle through the atom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917640" y="18288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993960" y="31240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6175440" y="61722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ymbiotic relationship in which 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rganism benefits but the other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ither harmed nor help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518200" y="2438280"/>
            <a:ext cx="33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ommens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461880" y="3657600"/>
            <a:ext cx="77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scientific study of interac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tween organisms and betwe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sms and their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3124080" y="57913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ec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410080" y="304560"/>
            <a:ext cx="3733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diagra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called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0" y="4060800"/>
            <a:ext cx="95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do you think would happen to the sna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pulation in this community if all the pine bor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gs were killed by a vir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5562720" y="1600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food we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6" descr="food web"/>
          <p:cNvPicPr/>
          <p:nvPr/>
        </p:nvPicPr>
        <p:blipFill>
          <a:blip r:embed="rId1"/>
          <a:stretch/>
        </p:blipFill>
        <p:spPr>
          <a:xfrm>
            <a:off x="304920" y="0"/>
            <a:ext cx="4933800" cy="39243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>
            <a:off x="379440" y="5305320"/>
            <a:ext cx="80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A loss in pine borer bugs would decrease the population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alamanders and golden crested kinglets (food for the snak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Loss of pine borers would eventually cause a decrease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nake population to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the organisms that live in a pl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US their non-living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126600" y="2133720"/>
            <a:ext cx="235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eco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91200" y="3635280"/>
            <a:ext cx="656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other name for autotrop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362320" y="4800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produc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y necessity for life such as water, food, light, or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3049560" y="2286000"/>
            <a:ext cx="20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39840" y="3581280"/>
            <a:ext cx="7611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lationship in which organism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ttempt to use the same resourc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t the same time and 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905120" y="5791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ompe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411444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do you think will happen to the limpet population if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mussels are wiped out in an oil spi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it will increase         it will decrease            it will stay the same; muss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don’t connect to limpets in this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52280" y="59119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Everything’s connected ! No mussels means crabs will eat more limpets; limpet population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6" descr="food web6"/>
          <p:cNvPicPr/>
          <p:nvPr/>
        </p:nvPicPr>
        <p:blipFill>
          <a:blip r:embed="rId1"/>
          <a:stretch/>
        </p:blipFill>
        <p:spPr>
          <a:xfrm>
            <a:off x="380880" y="0"/>
            <a:ext cx="5991480" cy="40957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6402600" y="1066680"/>
            <a:ext cx="2399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ok at the f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b sh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0" y="152280"/>
            <a:ext cx="876312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ch of the following is part of the    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HYDROLOGIC OR WATER CYCL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NOF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T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DEN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TROGEN FI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CIP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35053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746080" y="13716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736440" y="20574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61920" y="358128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NO - part of NITROGE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736440" y="42670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4424040" y="495288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NO - part of NITROGE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3660480" y="57913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sm such as bacteria or fung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at break down organic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983600" y="1828800"/>
            <a:ext cx="297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decompos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690120" y="3635280"/>
            <a:ext cx="721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ch step in a food chain or w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2209680" y="49528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trophic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ll something living things use nitrogen f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33520" y="914400"/>
            <a:ext cx="861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Making proteins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(amino part of amino acids)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Making nucleic acids (nitrogen ba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Part of ATP molecule (nitrogen b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8600" y="32004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is movement of matter in an ecosystem different than the movement of energ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28600" y="457200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Energy flows one direction through food chains; matter recycles continuously in biogeochemical cy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839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oups of different species that live together in an area make up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678320" y="175248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ommun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52280" y="2971800"/>
            <a:ext cx="947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ich of these is an omnivo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609480" y="563868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  ↑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Most humans  are omniv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zebra"/>
          <p:cNvPicPr/>
          <p:nvPr/>
        </p:nvPicPr>
        <p:blipFill>
          <a:blip r:embed="rId1"/>
          <a:stretch/>
        </p:blipFill>
        <p:spPr>
          <a:xfrm>
            <a:off x="457200" y="4191120"/>
            <a:ext cx="1571760" cy="10490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fungus"/>
          <p:cNvPicPr/>
          <p:nvPr/>
        </p:nvPicPr>
        <p:blipFill>
          <a:blip r:embed="rId2"/>
          <a:stretch/>
        </p:blipFill>
        <p:spPr>
          <a:xfrm>
            <a:off x="4952880" y="419112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tree"/>
          <p:cNvPicPr/>
          <p:nvPr/>
        </p:nvPicPr>
        <p:blipFill>
          <a:blip r:embed="rId3"/>
          <a:stretch/>
        </p:blipFill>
        <p:spPr>
          <a:xfrm>
            <a:off x="2895480" y="3733920"/>
            <a:ext cx="1406520" cy="2143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gut eating"/>
          <p:cNvPicPr/>
          <p:nvPr/>
        </p:nvPicPr>
        <p:blipFill>
          <a:blip r:embed="rId4"/>
          <a:stretch/>
        </p:blipFill>
        <p:spPr>
          <a:xfrm>
            <a:off x="7086600" y="3962520"/>
            <a:ext cx="152892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ycle which includes an underground reservoir in the form of fossil fu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2440080" y="1828800"/>
            <a:ext cx="304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arbon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8680" y="3683160"/>
            <a:ext cx="671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other name for the water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905120" y="5029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Hydrologic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09120" y="457200"/>
            <a:ext cx="81536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cess in which green plants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ergy from sunlight  to produ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rbohydr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603080" y="2666880"/>
            <a:ext cx="33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537840" y="4419720"/>
            <a:ext cx="71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other name for a  living 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600200" y="52578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organ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ll the group of organisms that all the cycles have in common which keeps matter cycling between living (organic) and nonliving (inorganic) parts of the ecosyst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755000" y="3200400"/>
            <a:ext cx="297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decompos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152280"/>
            <a:ext cx="9144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ganisms return nitrogen to the ground as ammoni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when they go to the bathroom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teria in soil change ammonia into nitrates and nit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ch plants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get our nitrogen by brea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trogen returns to the atmosphere when we burn fossil  fu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990720" y="3733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ALSE: Although the atmosphere is mostly nitrogen , it is in a form we can’t use. We get our nitrogen from the food we 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5718240" y="12952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3965760" y="236232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836640" y="5410080"/>
            <a:ext cx="703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ALSE; Bacteria return nitrogen to the atmosphere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hrough DENITRIFICATION. Burning fossil fuels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returns carbon dioxide to the 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an example of coop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90480" y="1295280"/>
            <a:ext cx="8024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Grooming, sharing food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sharing care of offspring,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group defense against pred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group hunting; care for sick/inju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920160" y="4495680"/>
            <a:ext cx="772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ll the two ways AUTOtrophs 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ir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762120" y="57913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hemosynthesis &amp; 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ch 4 atoms make up over 95% of the body in most organis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612720" y="1981080"/>
            <a:ext cx="826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arbon, Hydrogen, nitrogen , oxy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7800" y="3276720"/>
            <a:ext cx="8745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ich of the biogeochemical cycles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arned about recycles hydrogen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xyg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1523880" y="54864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Hydrologic or water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sm such as mites, snail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rthworms, or crabs that eat d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ts or anim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592360" y="2590920"/>
            <a:ext cx="249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detritiv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74040" y="3733920"/>
            <a:ext cx="851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cess in which bacteria in soi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nvert nitrogen gas into am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828800" y="55627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Nitrogen fix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ll 2 of the 3 ways bacteria help with the nitrogen cyc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28600" y="1676520"/>
            <a:ext cx="8915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ome bacteria in soil &amp; on plant roo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nvert nitrogen gas to ammonia (nitrogen fix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Other soil bacteria convert ammonia to nitrates &amp;    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     nitrites that the plants ca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Other bacteria convert nitrates into nitrogen gas and   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    return it to atmosphere (denitrific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448920" y="4800600"/>
            <a:ext cx="800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me the two sources of energy for ALL lif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8380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Sunlight and inorganic chemical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 organism that eats ONLY m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4800" y="1600200"/>
            <a:ext cx="22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arniv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466560" y="2666880"/>
            <a:ext cx="86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ll how a detritovore is different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decompos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04920" y="41911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Both get nutrients from dead organisms; detritivores eat dead stuff; decompo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Absorb energy from dead stuff, but DON’T actually EAT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ymbiotic relationship in which one organism benefits by living on or inside another which is harm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050640" y="2286000"/>
            <a:ext cx="246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parasit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58760" y="3657600"/>
            <a:ext cx="8486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nciple that states no 2 organism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n occupy the same niche in the s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abitat at the same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990720" y="58672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ompetitive exclusion princ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0" y="152280"/>
            <a:ext cx="93726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ch level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of individuals that belong to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cies and live in the same area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of ecosystems that have the same climat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communiti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ganisms so similar to one another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y can breed and produce fertile offspring 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ulations that live together in an area  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rtion of the planet in which all life exists 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ection of all  the organisms that live in a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area together with their physical environment 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6400800" y="3276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6174720" y="121932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249600" y="22860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BI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5946840" y="411480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250680" y="480060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BI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6556320" y="594360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ganisms that can make their own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energy from sunlight or chem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nds in inorganic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527480" y="2133720"/>
            <a:ext cx="54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autotrophs or produc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615240" y="3352680"/>
            <a:ext cx="7799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the non-living things such 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mate, temperature, weather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il type, or sunlight in 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system that impact an orga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2133720" y="5943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Abiotic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other name for the water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981440" y="1454040"/>
            <a:ext cx="38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Hydrologic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228600" y="3886200"/>
            <a:ext cx="700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ycle in which photosynthesis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ellular respiration particip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066680" y="5319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arbon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sm that can’t make its own food and get energy from consuming other org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5920" y="2743200"/>
            <a:ext cx="60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heterotrophs or consu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691200" y="4038480"/>
            <a:ext cx="832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y relationship in which two spe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e closely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2362320" y="55627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symbi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533160" y="6858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action in which one organism captures and feeds on an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2745360" y="2209680"/>
            <a:ext cx="22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pre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228600" y="3886200"/>
            <a:ext cx="947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twork of complex intera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nking all the food chains in an eco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3276720" y="5486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food we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7696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portion of  the Earth in which all life ex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593080" y="2057400"/>
            <a:ext cx="22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i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33640" y="3581280"/>
            <a:ext cx="8687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ke a food chain out of the follow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rbivore           carnivore           autotro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940320" y="5791320"/>
            <a:ext cx="74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autotroph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→ herbivore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→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arniv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sm that eats only 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2363400" y="1676520"/>
            <a:ext cx="22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herbiv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04920" y="3352680"/>
            <a:ext cx="883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cess in which elements, chemic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ounds, and other forms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e passed from part of the biosphere to 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3200400" y="5486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Biogeochemical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sm that eats only m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981800" y="1454040"/>
            <a:ext cx="22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arniv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690480" y="3635280"/>
            <a:ext cx="668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cess in which liquid wat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nges into a 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066680" y="5319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evap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, scroll down, and complete the food web matching activ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227880" y="3225960"/>
            <a:ext cx="86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though almost 80% of the atmosphere is made up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itrogen gas, most living things don’t have the enzy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cessary to use nitrogen directly from the atmosphe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ll how we get the nitrogen we need to make prote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DNA if we can’t get it from brea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1983240" y="5638680"/>
            <a:ext cx="35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From food we 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cess that is part of the carbon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which sunlight is used to 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mospheric carbon int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omolec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d for energy by living th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2593800" y="2895480"/>
            <a:ext cx="33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688320" y="3635280"/>
            <a:ext cx="788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ycle in which transpiration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vaporation, and condensation pl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r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981080" y="5791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Water/hydrologic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228240" y="46483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me a producer in the food web sh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kind of heterotroph is a leopard s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1981080" y="51055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phytoplank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7" descr="foodweb"/>
          <p:cNvPicPr/>
          <p:nvPr/>
        </p:nvPicPr>
        <p:blipFill>
          <a:blip r:embed="rId1"/>
          <a:stretch/>
        </p:blipFill>
        <p:spPr>
          <a:xfrm>
            <a:off x="380880" y="380880"/>
            <a:ext cx="6096240" cy="42195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8"/>
          <p:cNvSpPr/>
          <p:nvPr/>
        </p:nvSpPr>
        <p:spPr>
          <a:xfrm>
            <a:off x="684000" y="4343400"/>
            <a:ext cx="525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99"/>
                </a:solidFill>
                <a:latin typeface="Arial"/>
              </a:rPr>
              <a:t>http://www.coolantarctica.com/Antarctica%20fact%20file/wildlife/whales/foodweb.g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2056680" y="61498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carniv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ycle in which volcanic activity and burning fossil fuels plays a r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2364120" y="1981080"/>
            <a:ext cx="304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arbon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231840" y="3630600"/>
            <a:ext cx="876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ycle which is dependent on bacteri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 nitrogen fixation and denitr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600200" y="52578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Nitrogen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ch type of organism is always on the first trophic level of every food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609480" y="19051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A produ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146520" y="2895480"/>
            <a:ext cx="8724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process in which organisms use chemic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ergy stored IN THE CHEMICAL BOND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ORGANIC MOLECULES to make their 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od in the absence of light is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_______________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380880" y="4800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hem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s in which the break down of sugars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ving things returns carbon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mosphere as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uring the carbon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2057400" y="2438280"/>
            <a:ext cx="44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ellular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231840" y="3630600"/>
            <a:ext cx="876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ycle which is dependent on bacteri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 nitrogen fixation and denitr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1600200" y="52578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Nitrogen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228240" y="46483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an omnivore in the food web sh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kind of heterotroph is the snail in this food we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52280" y="51814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Rats, voles, mice, &amp; mallards eat both plants and an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5678280" y="0"/>
            <a:ext cx="346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Arial"/>
              </a:rPr>
              <a:t>http://sps.k12.ar.us/massengale/ecology_notes_bi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1753920" y="632628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herbiv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7" descr="foodweb1"/>
          <p:cNvPicPr/>
          <p:nvPr/>
        </p:nvPicPr>
        <p:blipFill>
          <a:blip r:embed="rId1"/>
          <a:stretch/>
        </p:blipFill>
        <p:spPr>
          <a:xfrm>
            <a:off x="1523880" y="228600"/>
            <a:ext cx="3994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ll 2 human activities by which carb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nter the atmospher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s 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during the carbon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1295280" y="22860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Cellular respiration, 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urning fossil fu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154800" y="3809880"/>
            <a:ext cx="864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ll one way carbo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leaves the atmospher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uring the carbon cyc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380880" y="5257800"/>
            <a:ext cx="83822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O</a:t>
            </a:r>
            <a:r>
              <a:rPr b="1" lang="en-US" sz="36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gas dissolves in water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CH ORGANISMS are responsible for removing nitrogen from and returning nitrogen to the atmosp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13640" y="1828800"/>
            <a:ext cx="439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ACTERIA in soi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04920" y="2514600"/>
            <a:ext cx="8534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process of taking nitrogen from the atmosphere and changing it into a form plants can use is called 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process of converting soil nitrogen back into atmospheric form is called 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200400" y="40384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NITROGEN FIX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09960" y="5486400"/>
            <a:ext cx="34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ENIT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me 2 NON-human activities by which carbon c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nter the atmosphere or ocea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during the carbon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990720" y="220968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Volcanic a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Decomposition of dead org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Deposition as fossil fu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Ero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460800" y="4572000"/>
            <a:ext cx="70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ll one way bacteria help wi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geochemical cyc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52280" y="58672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Nitrogen fixation &amp; denitrification (nitrogen cycle)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ecomposers break down dead organisms (carbon cyc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ll something humans do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turn nitrogen to the soi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for the nitrogen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609480" y="19051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Add fertilizers;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waste treatment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231840" y="3606840"/>
            <a:ext cx="758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me the 4 biogeochemical cycles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arned abou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457200" y="5181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arbon, hydrologic (water);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nitrogen; phosphor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ergy moves through ecosystem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755360" y="914400"/>
            <a:ext cx="400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Food chains/we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52280" y="2971800"/>
            <a:ext cx="947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ich of these is a decompos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09480" y="56386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                                        ↑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ungi and SOME bacteria are decomp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zebra"/>
          <p:cNvPicPr/>
          <p:nvPr/>
        </p:nvPicPr>
        <p:blipFill>
          <a:blip r:embed="rId1"/>
          <a:stretch/>
        </p:blipFill>
        <p:spPr>
          <a:xfrm>
            <a:off x="685800" y="4267080"/>
            <a:ext cx="1571760" cy="1049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fungus"/>
          <p:cNvPicPr/>
          <p:nvPr/>
        </p:nvPicPr>
        <p:blipFill>
          <a:blip r:embed="rId2"/>
          <a:stretch/>
        </p:blipFill>
        <p:spPr>
          <a:xfrm>
            <a:off x="5105520" y="4114800"/>
            <a:ext cx="1447560" cy="1085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tree"/>
          <p:cNvPicPr/>
          <p:nvPr/>
        </p:nvPicPr>
        <p:blipFill>
          <a:blip r:embed="rId3"/>
          <a:stretch/>
        </p:blipFill>
        <p:spPr>
          <a:xfrm>
            <a:off x="2895480" y="3733920"/>
            <a:ext cx="1406520" cy="2143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punkbaby"/>
          <p:cNvPicPr/>
          <p:nvPr/>
        </p:nvPicPr>
        <p:blipFill>
          <a:blip r:embed="rId4"/>
          <a:stretch/>
        </p:blipFill>
        <p:spPr>
          <a:xfrm>
            <a:off x="7315200" y="3809880"/>
            <a:ext cx="1281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ganism that eats both plant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125880" y="1600200"/>
            <a:ext cx="224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omniv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89400" y="3635280"/>
            <a:ext cx="839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cess in which water from pla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aves evaporates into the atm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066680" y="5319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transpi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9:30:30Z</dcterms:created>
  <dc:creator>kriedell</dc:creator>
  <dc:description/>
  <dc:language>en-US</dc:language>
  <cp:lastModifiedBy>dzahm</cp:lastModifiedBy>
  <dcterms:modified xsi:type="dcterms:W3CDTF">2013-12-19T14:14:18Z</dcterms:modified>
  <cp:revision>73</cp:revision>
  <dc:subject/>
  <dc:title>asdfs</dc:title>
</cp:coreProperties>
</file>